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B04-7EF0-4078-970C-6ECD16575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google the search asks for your clarification. It does this based on similar results fi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ifferentiates between sponsored links and non-sponsored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at it is a non-sponsored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s the search engine that yielded the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ran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 through the advance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ect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search query with boolean oper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t Fetch and Show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a consistent view of the results, which helps streamline searching. The searcher can control how much filtering dogpile does. Also allows for fast finding of key words and previous searc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items to display per page by tab fil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you to enter your location of preference to ensure that your local news search is prefill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you save preferences and re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ent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pile saves time by delivering you all of the unique and not so unique items from 3 major search engines. It allows you to set preferences to help save time and displays previous search results. Finally, it offers you suggested queries to help you narrow your 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ebopedia.com/TERM/M/metasearch_engine.html (20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ifferent Engines, Different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b Searchers Not Always Finding What They’re Looking for On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earch Study by Dogpil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ollaboration with Researchers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ensland University of Technology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nnsylvania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search aggregates results from multiple search eng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search technology saves time &amp; can find more relevan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hows 1.1% of first page results are duplicates between Google, Yahoo!, MSN, and Ask Jee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 98.9% of the information is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3009-DCE4-46CC-90B7-3C9A7C26F2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redundancy implies multiple search engines required to get full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ing trend - As companies improve indexing this will reduce redunda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pile is counting on i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L: www.dogpil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fie the Mascot: You can write to h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Google and Yahoo, you enter your searches into the query 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pile also offers quick links to most popular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 start section offers tools to make your browsing easi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s at the top allow you to filter results based on images, video, Newsgroups, local news (as set in your preferences), and white p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e advanced search link (discussed l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e Preference link (also reviewed l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entr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s the typed qu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ntional mispe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A43-2AB2-436F-A612-70D75DFB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74C-7254-4F64-A5FE-E36E98C3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622-83FD-45F0-9673-16112378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96C-5A64-4181-B0BC-6ADD3439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15F-0F40-46A1-A3D2-D5C6F5E1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BAB-25DD-4EA7-815C-8DFAE1A7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B4B-1F20-4A66-B2E4-5DC7E13E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AF7-4A54-4E2C-B561-9FCE4040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519-FD7D-47DF-955C-06CBDE7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198-A5D7-4735-9814-B86BC6FE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4DD-169A-4137-82E0-89C49E8F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E8A3-BEC8-4481-9D48-23E18771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126A-5961-434A-80E1-908D0EF1C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.c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eta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Text Placeholder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78" name="Line Callout 1 11"/>
          <p:cNvSpPr/>
          <p:nvPr/>
        </p:nvSpPr>
        <p:spPr>
          <a:xfrm>
            <a:off x="5867280" y="16765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152708"/>
              <a:gd name="adj4" fmla="val -14116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gpile asking for c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3048120"/>
            <a:ext cx="9144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Callout 1 11"/>
          <p:cNvSpPr/>
          <p:nvPr/>
        </p:nvSpPr>
        <p:spPr>
          <a:xfrm>
            <a:off x="5638680" y="44197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-161875"/>
              <a:gd name="adj4" fmla="val -960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ies this as a sponsored link from 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ext Placeholder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09680" y="4572000"/>
            <a:ext cx="12956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Callout 1 11"/>
          <p:cNvSpPr/>
          <p:nvPr/>
        </p:nvSpPr>
        <p:spPr>
          <a:xfrm>
            <a:off x="4495680" y="30481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208124"/>
              <a:gd name="adj4" fmla="val -42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ies these non-sponsored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Callout 1 11"/>
          <p:cNvSpPr/>
          <p:nvPr/>
        </p:nvSpPr>
        <p:spPr>
          <a:xfrm>
            <a:off x="4572000" y="50292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-50000"/>
              <a:gd name="adj4" fmla="val -428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ists which search engines this was foun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Text Placeholder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2743200"/>
            <a:ext cx="14479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Callout 1 11"/>
          <p:cNvSpPr/>
          <p:nvPr/>
        </p:nvSpPr>
        <p:spPr>
          <a:xfrm>
            <a:off x="3124080" y="27432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11250"/>
              <a:gd name="adj4" fmla="val 152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fers suggested searches to help refine your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809880"/>
            <a:ext cx="129564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Callout 1 11"/>
          <p:cNvSpPr/>
          <p:nvPr/>
        </p:nvSpPr>
        <p:spPr>
          <a:xfrm>
            <a:off x="3505320" y="449568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-33125"/>
              <a:gd name="adj4" fmla="val 1351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ves your queries (only while browser is 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gpile Tutorial: Advanced 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Text Placeholder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4" name="Text Placeholder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5" name="Text Placeholder 2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Text Placeholder 2" descr=""/>
          <p:cNvPicPr/>
          <p:nvPr/>
        </p:nvPicPr>
        <p:blipFill>
          <a:blip r:embed="rId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: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Text Placeholder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5105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705720" y="342900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61981"/>
              <a:gd name="adj4" fmla="val -9490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s explici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05720" y="4267080"/>
            <a:ext cx="2133360" cy="609840"/>
          </a:xfrm>
          <a:prstGeom prst="borderCallout1">
            <a:avLst>
              <a:gd name="adj1" fmla="val 18750"/>
              <a:gd name="adj2" fmla="val -8333"/>
              <a:gd name="adj3" fmla="val 93490"/>
              <a:gd name="adj4" fmla="val -1755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ights search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5562720"/>
            <a:ext cx="2133360" cy="609480"/>
          </a:xfrm>
          <a:prstGeom prst="borderCallout1">
            <a:avLst>
              <a:gd name="adj1" fmla="val 18750"/>
              <a:gd name="adj2" fmla="val -8333"/>
              <a:gd name="adj3" fmla="val -29949"/>
              <a:gd name="adj4" fmla="val -1328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recent 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: P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324480" y="281952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137759"/>
              <a:gd name="adj4" fmla="val -1992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411480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137759"/>
              <a:gd name="adj4" fmla="val -1992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locations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334120"/>
            <a:ext cx="2057400" cy="609480"/>
          </a:xfrm>
          <a:prstGeom prst="borderCallout1">
            <a:avLst>
              <a:gd name="adj1" fmla="val 18750"/>
              <a:gd name="adj2" fmla="val -8333"/>
              <a:gd name="adj3" fmla="val 62759"/>
              <a:gd name="adj4" fmla="val -20663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or Restore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xt Placeholder 2" descr=""/>
          <p:cNvPicPr/>
          <p:nvPr/>
        </p:nvPicPr>
        <p:blipFill>
          <a:blip r:embed="rId1"/>
          <a:stretch/>
        </p:blipFill>
        <p:spPr>
          <a:xfrm>
            <a:off x="1566720" y="1600200"/>
            <a:ext cx="1819440" cy="218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380880"/>
            <a:ext cx="1828800" cy="1905120"/>
          </a:xfrm>
          <a:prstGeom prst="cloudCallout">
            <a:avLst>
              <a:gd name="adj1" fmla="val 58074"/>
              <a:gd name="adj2" fmla="val 88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gpile saves you ti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80880"/>
            <a:ext cx="2133720" cy="1905120"/>
          </a:xfrm>
          <a:prstGeom prst="cloudCallout">
            <a:avLst>
              <a:gd name="adj1" fmla="val 50148"/>
              <a:gd name="adj2" fmla="val 8799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y offering sugg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ext Placeholder 2" descr=""/>
          <p:cNvPicPr/>
          <p:nvPr/>
        </p:nvPicPr>
        <p:blipFill>
          <a:blip r:embed="rId2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Text Placeholder 2" descr=""/>
          <p:cNvPicPr/>
          <p:nvPr/>
        </p:nvPicPr>
        <p:blipFill>
          <a:blip r:embed="rId3"/>
          <a:stretch/>
        </p:blipFill>
        <p:spPr>
          <a:xfrm>
            <a:off x="5851440" y="1600200"/>
            <a:ext cx="1631880" cy="218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324480" y="0"/>
            <a:ext cx="2819520" cy="1905120"/>
          </a:xfrm>
          <a:prstGeom prst="cloudCallout">
            <a:avLst>
              <a:gd name="adj1" fmla="val -28208"/>
              <a:gd name="adj2" fmla="val 8208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giving aggregating search results from major search eng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 Placeholder 2" descr=""/>
          <p:cNvPicPr/>
          <p:nvPr/>
        </p:nvPicPr>
        <p:blipFill>
          <a:blip r:embed="rId4"/>
          <a:stretch/>
        </p:blipFill>
        <p:spPr>
          <a:xfrm>
            <a:off x="1409760" y="4154400"/>
            <a:ext cx="2133720" cy="1755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9880" y="2895480"/>
            <a:ext cx="2133720" cy="1905120"/>
          </a:xfrm>
          <a:prstGeom prst="cloudCallout">
            <a:avLst>
              <a:gd name="adj1" fmla="val 98810"/>
              <a:gd name="adj2" fmla="val 7191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aving your previous 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4724280"/>
            <a:ext cx="2286000" cy="1905120"/>
          </a:xfrm>
          <a:prstGeom prst="cloudCallout">
            <a:avLst>
              <a:gd name="adj1" fmla="val 56527"/>
              <a:gd name="adj2" fmla="val -4141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roviding you personalized 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5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etasearch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opedia (2012): A search engine that queries other search engines and then combines the results that are received from all. In effect, the user is not using just one search engine but a combination of many search engines at once to optimize Web searching. For example, Dogpile is a metasearch eng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search technology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edundancy implies multiple search engines required to get full pi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ng trend - As companies improve indexing this will reduce redunda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gpile is counting on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is Dogpile.c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gpile.com is owned by InfoSpace, In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Space has search and tax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gpile uses Metasearch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mpany aggregates search results from Yahoo!, Google, and B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get c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Callout 1 12"/>
          <p:cNvSpPr/>
          <p:nvPr/>
        </p:nvSpPr>
        <p:spPr>
          <a:xfrm>
            <a:off x="6515280" y="1352520"/>
            <a:ext cx="2286000" cy="914400"/>
          </a:xfrm>
          <a:prstGeom prst="borderCallout1">
            <a:avLst>
              <a:gd name="adj1" fmla="val 18750"/>
              <a:gd name="adj2" fmla="val -8333"/>
              <a:gd name="adj3" fmla="val 55902"/>
              <a:gd name="adj4" fmla="val -158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URL: www.dogpi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Callout 1 11"/>
          <p:cNvSpPr/>
          <p:nvPr/>
        </p:nvSpPr>
        <p:spPr>
          <a:xfrm>
            <a:off x="6172200" y="403848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78333"/>
              <a:gd name="adj4" fmla="val -228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fie the Dogpile mas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: About th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Callout 1 11"/>
          <p:cNvSpPr/>
          <p:nvPr/>
        </p:nvSpPr>
        <p:spPr>
          <a:xfrm>
            <a:off x="6019920" y="27432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121078"/>
              <a:gd name="adj4" fmla="val -1230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your search query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Callout 1 11"/>
          <p:cNvSpPr/>
          <p:nvPr/>
        </p:nvSpPr>
        <p:spPr>
          <a:xfrm>
            <a:off x="6172200" y="50292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-108125"/>
              <a:gd name="adj4" fmla="val -1074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pular 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Callout 1 11"/>
          <p:cNvSpPr/>
          <p:nvPr/>
        </p:nvSpPr>
        <p:spPr>
          <a:xfrm>
            <a:off x="6095880" y="380988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47916"/>
              <a:gd name="adj4" fmla="val -682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lpful quick star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Callout 1 11"/>
          <p:cNvSpPr/>
          <p:nvPr/>
        </p:nvSpPr>
        <p:spPr>
          <a:xfrm>
            <a:off x="6019920" y="25146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100208"/>
              <a:gd name="adj4" fmla="val -85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abs allow you to focus your query (like Goog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10" descr="dogpile- pic 1.JPG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Callout 1 11"/>
          <p:cNvSpPr/>
          <p:nvPr/>
        </p:nvSpPr>
        <p:spPr>
          <a:xfrm>
            <a:off x="2209680" y="5257800"/>
            <a:ext cx="2819520" cy="762120"/>
          </a:xfrm>
          <a:prstGeom prst="borderCallout1">
            <a:avLst>
              <a:gd name="adj1" fmla="val 18750"/>
              <a:gd name="adj2" fmla="val -8333"/>
              <a:gd name="adj3" fmla="val -193750"/>
              <a:gd name="adj4" fmla="val 110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s default searching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Callout 1 11"/>
          <p:cNvSpPr/>
          <p:nvPr/>
        </p:nvSpPr>
        <p:spPr>
          <a:xfrm>
            <a:off x="6019920" y="25146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161041"/>
              <a:gd name="adj4" fmla="val -405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vanced search allows Boolean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gpile Tuto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Text Placeholder 2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8804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Line Callout 1 11"/>
          <p:cNvSpPr/>
          <p:nvPr/>
        </p:nvSpPr>
        <p:spPr>
          <a:xfrm>
            <a:off x="6213600" y="3173400"/>
            <a:ext cx="2819160" cy="762120"/>
          </a:xfrm>
          <a:prstGeom prst="borderCallout1">
            <a:avLst>
              <a:gd name="adj1" fmla="val 18750"/>
              <a:gd name="adj2" fmla="val -8333"/>
              <a:gd name="adj3" fmla="val -18958"/>
              <a:gd name="adj4" fmla="val -876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sspelled th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11"/>
          <p:cNvSpPr/>
          <p:nvPr/>
        </p:nvSpPr>
        <p:spPr>
          <a:xfrm>
            <a:off x="5867280" y="1676520"/>
            <a:ext cx="2819520" cy="761760"/>
          </a:xfrm>
          <a:prstGeom prst="borderCallout1">
            <a:avLst>
              <a:gd name="adj1" fmla="val 18750"/>
              <a:gd name="adj2" fmla="val -8333"/>
              <a:gd name="adj3" fmla="val 169166"/>
              <a:gd name="adj4" fmla="val -905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uery African 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19:36:38Z</dcterms:created>
  <dc:creator>training</dc:creator>
  <dc:description/>
  <dc:language>en-US</dc:language>
  <cp:lastModifiedBy>mcasarano</cp:lastModifiedBy>
  <dcterms:modified xsi:type="dcterms:W3CDTF">2012-04-03T20:04:53Z</dcterms:modified>
  <cp:revision>14</cp:revision>
  <dc:subject/>
  <dc:title>Dogpile.com</dc:title>
</cp:coreProperties>
</file>